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2F5-C43F-468F-BAAA-9A82BBAA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77D-FDC5-4CA9-909F-F4A996D2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CB8-6D78-4829-B1B1-A7B335C6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EE8-15E9-451D-B389-AC30184F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4990-8B86-4304-AED0-4A70B53C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6749-CB3F-4FC1-BF90-7470917A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269F-F7F5-40BB-8881-D59A79FF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47A3-91C0-4240-893D-99AC3B9F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3EC1-778A-47FD-BD99-54BC8D0E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55F9-400D-4608-9774-B46F13ED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6FAF-6345-48FD-92CB-0F1BA540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615-BDEA-45DB-B2FF-79056EC3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285C-5D9F-4B98-B395-54CDB78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1660-9D4C-4E66-9D97-500F60C7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788A-79E1-4F40-B6F9-B231362E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25A6-1F5B-4807-B3F2-A49E00CD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CEC7-CA49-490E-8EB4-77AC86C4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322-A90A-49DE-8825-AC98203E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984-F424-4CA9-9644-5A57B5C5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F75-DD5B-4BC6-B5B7-C5510C9A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344-8957-4B25-BC44-4F8EC38E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E24-0085-472B-A9FB-DBDF702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C19-1F8D-47F7-96CF-B6B99CF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FC4-137A-4BF4-BAAF-9A4349E9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A5D9-F9EB-4C9E-AD1C-DDC2E872A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5614-EE35-4E5E-8BFF-C8112B85A773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3375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谈谈秦至汉初</a:t>
            </a:r>
            <a:br>
              <a:rPr sz="4800"/>
            </a:b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（前</a:t>
            </a:r>
            <a:r>
              <a:rPr b="1" lang="en-US" sz="4800" spc="-1" strike="noStrike">
                <a:solidFill>
                  <a:srgbClr val="003399"/>
                </a:solidFill>
                <a:latin typeface="黑体"/>
                <a:ea typeface="黑体"/>
              </a:rPr>
              <a:t>246</a:t>
            </a: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至前</a:t>
            </a:r>
            <a:r>
              <a:rPr b="1" lang="en-US" sz="4800" spc="-1" strike="noStrike">
                <a:solidFill>
                  <a:srgbClr val="003399"/>
                </a:solidFill>
                <a:latin typeface="黑体"/>
                <a:ea typeface="黑体"/>
              </a:rPr>
              <a:t>104</a:t>
            </a: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）的历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仿宋"/>
              </a:rPr>
              <a:t>李忠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仿宋"/>
              </a:rPr>
              <a:t>南开大学历史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方法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周家台秦墓竹简历谱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张家山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47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号汉墓竹简历谱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银雀山汉简历谱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99080" y="3778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c5900"/>
                </a:solidFill>
                <a:latin typeface="Arial"/>
              </a:rPr>
              <a:t>收敛分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1440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c5900"/>
                </a:solidFill>
                <a:latin typeface="Arial"/>
              </a:rPr>
              <a:t>断裂分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082880" y="4497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c5900"/>
                </a:solidFill>
                <a:latin typeface="Arial"/>
              </a:rPr>
              <a:t>历元筛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83059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四、结论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83059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7a77"/>
                </a:solidFill>
                <a:latin typeface="隶书"/>
                <a:ea typeface="隶书"/>
              </a:rPr>
              <a:t>谢谢</a:t>
            </a:r>
            <a:endParaRPr b="0" lang="en-US" sz="1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>
            <a:hlinkClick r:id="rId1" action="ppaction://hlinksldjump"/>
          </p:cNvPr>
          <p:cNvSpPr/>
          <p:nvPr/>
        </p:nvSpPr>
        <p:spPr>
          <a:xfrm>
            <a:off x="539640" y="1258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零、预备知识：四分术和古六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5">
            <a:hlinkClick r:id="rId2" action="ppaction://hlinksldjump"/>
          </p:cNvPr>
          <p:cNvSpPr/>
          <p:nvPr/>
        </p:nvSpPr>
        <p:spPr>
          <a:xfrm>
            <a:off x="533520" y="18288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、问题的提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7">
            <a:hlinkClick r:id="rId3" action="ppaction://hlinksldjump"/>
          </p:cNvPr>
          <p:cNvSpPr/>
          <p:nvPr/>
        </p:nvSpPr>
        <p:spPr>
          <a:xfrm>
            <a:off x="533520" y="2362320"/>
            <a:ext cx="30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二、材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8">
            <a:hlinkClick r:id="rId4" action="ppaction://hlinksldjump"/>
          </p:cNvPr>
          <p:cNvSpPr/>
          <p:nvPr/>
        </p:nvSpPr>
        <p:spPr>
          <a:xfrm>
            <a:off x="539640" y="2878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三、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9">
            <a:hlinkClick r:id="rId5" action="ppaction://hlinksldjump"/>
          </p:cNvPr>
          <p:cNvSpPr/>
          <p:nvPr/>
        </p:nvSpPr>
        <p:spPr>
          <a:xfrm>
            <a:off x="1261080" y="34178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四、结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零、预备知识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四分术与古六历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1"/>
          <a:stretch/>
        </p:blipFill>
        <p:spPr>
          <a:xfrm>
            <a:off x="1646280" y="1905120"/>
            <a:ext cx="59310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914400" y="1438200"/>
            <a:ext cx="731520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476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大唐开元占经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所传古六历上元甲子及积年，数据如下：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黄帝历上元辛卯至今（开元二年甲寅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760863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；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颛顼历上元乙卯至今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761019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；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夏  历上元乙丑至今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760589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；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殷  历上元甲寅至今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761080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；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周  历上元丁巳至今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761137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；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鲁  历上元庚子至今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761334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AutoShape 21">
            <a:hlinkClick r:id="rId1" action="ppaction://hlinksldjump"/>
          </p:cNvPr>
          <p:cNvSpPr/>
          <p:nvPr/>
        </p:nvSpPr>
        <p:spPr>
          <a:xfrm>
            <a:off x="83059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一、问题的提出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史记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张丞相列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载汉初“用秦之颛顼历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汉书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律历志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：“汉兴，方纲纪大基，庶事草创，袭秦正朔。以北平侯张苍言，用颛顼历，比于六历，疏阔中最为微近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准此，则秦至汉初均用颛顼历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但验之实朔干支，却往往不合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83059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二、材料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历日材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、朔干支。需要年月明确，如（秦王政）二年十月癸酉朔戊寅，这类材料的价值很高。（共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305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条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、日干支。需要年月明确，如高祖六年正月丙戌，这类材料的价值有限。（共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4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条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、气干支。需要年月明确，如元光元年历谱：“正月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壬申反立春。”气干支的价值也很高，但这类材料较少。（共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条）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502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c5900"/>
                </a:solidFill>
                <a:latin typeface="Arial"/>
              </a:rPr>
              <a:t>实  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实际置闰年份的判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存在两年一闰和三年一闰两种模式，即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闰）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闰）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而且我们很容易证明不会出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闰）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闰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这种模式，而只能是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闰）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闰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闰）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闰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平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这种模式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推算方法举隅：秦王政元年和四年有闰。张家山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47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号汉墓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奏谳书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载有“秦王政二年十月癸酉朔”，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史记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秦本纪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载秦王政四年十月庚寅，癸酉距庚寅为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737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日（含庚寅日），为了增加秦王政二、三两年的天数，使之更可能存在闰年，我们不妨假定庚寅为秦王政四年十月的朔日，这样二、三两年的天数总和最多只可能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736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日。为了在这两年出现闰年，再次假定二、三两年共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月，且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大，这是两年含闰月时最小的天数组合，结果仍然需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737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日，而事实上二、三两年的天数总和最多只能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736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日，据此可以严格排出秦王政二、三年有闰的可能性。进而得到秦王政元年和四年有闰的结论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952280" y="548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c5900"/>
                </a:solidFill>
                <a:latin typeface="Arial"/>
              </a:rPr>
              <a:t>实际置闰年份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83059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3T08:17:24Z</dcterms:created>
  <dc:creator>lizhonglin</dc:creator>
  <dc:description/>
  <dc:language>en-US</dc:language>
  <cp:lastModifiedBy>lzl</cp:lastModifiedBy>
  <dcterms:modified xsi:type="dcterms:W3CDTF">2017-05-24T12:53:5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